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5E959-432A-4CDE-893C-FDC9C4491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6A4C9-8D7F-4463-96D4-475625518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6E14B-750C-4B26-B37B-852A79293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F205C-79CF-4CA7-98C2-6C9E152E4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FD8CD-665E-4E7C-AD76-FDB6B6A70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5436B-73AB-42A4-9FE0-E5CB46E4E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7245F-8DE8-458B-AEB1-248EFEE17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F2954-F27C-4393-BDF1-4EBA942CB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B18A9-2597-4E8B-8DB0-510E3C600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B7A8B-2B32-4B31-96BC-BF2BAB2F5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C5C7D-0CFF-4BDE-8B46-A80350F18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BF713-2170-4CDB-BB6F-A620B70BA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2B6D0-CBAC-415A-8ABF-BFFE1627E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658DB-64D8-4272-8C54-326CDB02C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74734-F9FE-416C-8601-92D3DA480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E2AC6-A2D0-4716-9F59-2DD05C6B5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74853-8CD1-4831-8E7C-50C2FC948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35FF7-2B27-468B-8AC8-E7235623F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360D8-2903-499D-B5EF-8FE41C93B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A9E58-3FE3-46A0-8269-A5FCFAB64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9B9DA-049F-4DC8-AFA5-E3C91C3C1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24152-BFA9-4D12-AC4B-ACD7B3539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EE23E-F510-4751-B99D-68EDE025F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0D216-C20A-46C4-AEEE-2B45E2E20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8B198-E385-43B0-BA72-675C0CDD0AB7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CE773-F9DE-4354-8923-159A03A6582E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Digestive System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8" name="" descr="Labeled diagram of the stomach of the digestive system"/>
          <p:cNvPicPr/>
          <p:nvPr/>
        </p:nvPicPr>
        <p:blipFill>
          <a:blip r:embed="rId1"/>
          <a:stretch/>
        </p:blipFill>
        <p:spPr>
          <a:xfrm>
            <a:off x="155520" y="46080"/>
            <a:ext cx="7629480" cy="57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hapter 29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ultiple choice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hort Answer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Visualizing Concept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natomy of Large Intestin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609480" y="1600200"/>
            <a:ext cx="800100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Large intestine/Col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unction of LI is to eliminate wast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One of the most common inhabitants of the human colon is </a:t>
            </a:r>
            <a:r>
              <a:rPr b="0" i="1" lang="en-US" sz="3200" spc="-1" strike="noStrike">
                <a:solidFill>
                  <a:srgbClr val="ffffff"/>
                </a:solidFill>
                <a:latin typeface="Verdana"/>
              </a:rPr>
              <a:t>Escheridia Coli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. Coli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s byproducts of their metabolism, many colon bacteria generate gases, including methane and hyrdogen sulfide. Hint:  What does Sulfur smell like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ymbiosi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 relationship between two species that benefit from one another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Bacteria produce vitamins, which include folic acid, vitamin K, and several B vitamins.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he four stages of Diges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ngesti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igesti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bsorpti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liminati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arts of the Stomach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0" y="1371600"/>
            <a:ext cx="83818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natomy of the small intestin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990720" y="1523880"/>
            <a:ext cx="72388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Duodenum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t is here that acid chyme from the stomach mixes with digestive juices from the liver, gallbladder, and intestinal wall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Liver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One function is to produce bile, stored in the gallbladder when needed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Bile contains no digestive enzym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Bile aid in the digestion and absorption of fat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aste products of bile are secreted within the feces of the large intestin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ancrea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rete pancreatic amylase to breakdown Carbohydrates into monosaccharides and disaccharide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lso the pancreas secretes trypsin to aid in the digestion of proteins-amino acid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hat are microvillus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airlike projections located in the small intestin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t increases the surface area to increase the rate of nutrient absorption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rteries of the Intestin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uperior and Inferior mesenteric arteries and Hepatic portal vein that drain and leads directly to the liver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8T04:42:25Z</dcterms:created>
  <dc:creator>Dischie</dc:creator>
  <dc:description/>
  <dc:language>en-US</dc:language>
  <cp:lastModifiedBy>user</cp:lastModifiedBy>
  <dcterms:modified xsi:type="dcterms:W3CDTF">2007-01-11T16:56:08Z</dcterms:modified>
  <cp:revision>6</cp:revision>
  <dc:subject/>
  <dc:title>Digestive System</dc:title>
</cp:coreProperties>
</file>